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ver-bl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809880" y="3200040"/>
            <a:ext cx="2819520" cy="1019520"/>
            <a:chOff x="3809880" y="3200040"/>
            <a:chExt cx="2819520" cy="1019520"/>
          </a:xfrm>
        </p:grpSpPr>
        <p:sp>
          <p:nvSpPr>
            <p:cNvPr id="41" name=""/>
            <p:cNvSpPr/>
            <p:nvPr/>
          </p:nvSpPr>
          <p:spPr>
            <a:xfrm>
              <a:off x="4745880" y="3200040"/>
              <a:ext cx="71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3809880" y="3686040"/>
              <a:ext cx="2819520" cy="533520"/>
              <a:chOff x="3809880" y="3686040"/>
              <a:chExt cx="2819520" cy="533520"/>
            </a:xfrm>
          </p:grpSpPr>
          <p:sp>
            <p:nvSpPr>
              <p:cNvPr id="43" name=""/>
              <p:cNvSpPr/>
              <p:nvPr/>
            </p:nvSpPr>
            <p:spPr>
              <a:xfrm>
                <a:off x="3809880" y="368604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19640" y="368604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" name=""/>
          <p:cNvGrpSpPr/>
          <p:nvPr/>
        </p:nvGrpSpPr>
        <p:grpSpPr>
          <a:xfrm>
            <a:off x="573120" y="3200040"/>
            <a:ext cx="2819520" cy="1019520"/>
            <a:chOff x="573120" y="3200040"/>
            <a:chExt cx="2819520" cy="1019520"/>
          </a:xfrm>
        </p:grpSpPr>
        <p:sp>
          <p:nvSpPr>
            <p:cNvPr id="46" name=""/>
            <p:cNvSpPr/>
            <p:nvPr/>
          </p:nvSpPr>
          <p:spPr>
            <a:xfrm>
              <a:off x="1058760" y="3200040"/>
              <a:ext cx="1613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nt Exp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73120" y="3686040"/>
              <a:ext cx="2819520" cy="533520"/>
              <a:chOff x="573120" y="3686040"/>
              <a:chExt cx="2819520" cy="533520"/>
            </a:xfrm>
          </p:grpSpPr>
          <p:sp>
            <p:nvSpPr>
              <p:cNvPr id="48" name=""/>
              <p:cNvSpPr/>
              <p:nvPr/>
            </p:nvSpPr>
            <p:spPr>
              <a:xfrm>
                <a:off x="573120" y="368604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82880" y="368604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FOR EXPEN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. Paid cash for rent, $4,000.00. Check No. 2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76520"/>
            <a:ext cx="2819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 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3880" y="167004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97360" y="1676520"/>
            <a:ext cx="1295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9960" y="1676520"/>
            <a:ext cx="1676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3654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744080" y="3854520"/>
            <a:ext cx="1961640" cy="441360"/>
            <a:chOff x="4744080" y="3854520"/>
            <a:chExt cx="1961640" cy="441360"/>
          </a:xfrm>
        </p:grpSpPr>
        <p:sp>
          <p:nvSpPr>
            <p:cNvPr id="59" name=""/>
            <p:cNvSpPr/>
            <p:nvPr/>
          </p:nvSpPr>
          <p:spPr>
            <a:xfrm>
              <a:off x="4744080" y="3927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5520" y="3854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,00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96800" y="3654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74080" y="3854520"/>
            <a:ext cx="2594520" cy="457200"/>
            <a:chOff x="874080" y="3854520"/>
            <a:chExt cx="2594520" cy="457200"/>
          </a:xfrm>
        </p:grpSpPr>
        <p:sp>
          <p:nvSpPr>
            <p:cNvPr id="63" name=""/>
            <p:cNvSpPr/>
            <p:nvPr/>
          </p:nvSpPr>
          <p:spPr>
            <a:xfrm>
              <a:off x="874080" y="39272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,00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84640" y="3854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400" y="380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42680" y="380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ON ACCOUNT WITHOUT PURCHASES DISCOU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Ch18-02d" descr=""/>
          <p:cNvPicPr/>
          <p:nvPr/>
        </p:nvPicPr>
        <p:blipFill>
          <a:blip r:embed="rId1"/>
          <a:srcRect l="1388" t="0" r="0" b="71474"/>
          <a:stretch/>
        </p:blipFill>
        <p:spPr>
          <a:xfrm>
            <a:off x="401760" y="1143000"/>
            <a:ext cx="8162640" cy="1531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7724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4440" y="4091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440" y="33526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44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Purchase Invoic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440" y="371808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4440" y="481644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Purchase Invoic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14300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payments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FOR EXPEN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Ch18-02a" descr=""/>
          <p:cNvPicPr/>
          <p:nvPr/>
        </p:nvPicPr>
        <p:blipFill>
          <a:blip r:embed="rId1"/>
          <a:srcRect l="2335" t="0" r="0" b="58671"/>
          <a:stretch/>
        </p:blipFill>
        <p:spPr>
          <a:xfrm>
            <a:off x="457200" y="1143000"/>
            <a:ext cx="8229600" cy="246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4680" y="3581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819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3581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3581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7432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4440" y="447192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4440" y="373392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4440" y="483552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440" y="409896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440" y="519732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CULATING A TRADE DIS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662120"/>
            <a:ext cx="8229600" cy="2681280"/>
            <a:chOff x="457200" y="1662120"/>
            <a:chExt cx="8229600" cy="2681280"/>
          </a:xfrm>
        </p:grpSpPr>
        <p:grpSp>
          <p:nvGrpSpPr>
            <p:cNvPr id="83" name=""/>
            <p:cNvGrpSpPr/>
            <p:nvPr/>
          </p:nvGrpSpPr>
          <p:grpSpPr>
            <a:xfrm>
              <a:off x="457200" y="1662120"/>
              <a:ext cx="8229600" cy="2681280"/>
              <a:chOff x="457200" y="1662120"/>
              <a:chExt cx="8229600" cy="2681280"/>
            </a:xfrm>
          </p:grpSpPr>
          <p:sp>
            <p:nvSpPr>
              <p:cNvPr id="84" name=""/>
              <p:cNvSpPr/>
              <p:nvPr/>
            </p:nvSpPr>
            <p:spPr>
              <a:xfrm>
                <a:off x="457200" y="1738440"/>
                <a:ext cx="8229600" cy="260496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457200" y="1662120"/>
                <a:ext cx="858600" cy="858600"/>
                <a:chOff x="457200" y="1662120"/>
                <a:chExt cx="858600" cy="858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7200" y="166212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914400" y="166212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" y="212220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914400" y="212076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432080" y="1828800"/>
              <a:ext cx="650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023840"/>
                  <a:tab algn="ctr" pos="2120760"/>
                  <a:tab algn="ctr" pos="3252960"/>
                  <a:tab algn="ctr" pos="4349880"/>
                  <a:tab algn="ctr" pos="5481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ep 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20760"/>
                  <a:tab algn="ctr" pos="3252960"/>
                  <a:tab algn="ctr" pos="4349880"/>
                  <a:tab algn="ctr" pos="5481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List Pric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de Discou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de Dis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7. Purchased merchandise for cash, $600.00 (list price $1,500.00 less 60% trade discount). Check No. 2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30280" y="2438280"/>
            <a:ext cx="60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20760"/>
                <a:tab algn="ctr" pos="3252960"/>
                <a:tab algn="ctr" pos="43498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5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33520" y="283680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20760"/>
                <a:tab algn="ctr" pos="3252960"/>
                <a:tab algn="ctr" pos="43498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023840"/>
                <a:tab algn="ctr" pos="2120760"/>
                <a:tab algn="ctr" pos="3252960"/>
                <a:tab algn="ctr" pos="43498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List Pr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de Discou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ic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1440" y="3454560"/>
            <a:ext cx="60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20760"/>
                <a:tab algn="ctr" pos="3252960"/>
                <a:tab algn="ctr" pos="4349880"/>
                <a:tab algn="ct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5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6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809880" y="3003120"/>
            <a:ext cx="2819520" cy="1019520"/>
            <a:chOff x="3809880" y="3003120"/>
            <a:chExt cx="2819520" cy="1019520"/>
          </a:xfrm>
        </p:grpSpPr>
        <p:sp>
          <p:nvSpPr>
            <p:cNvPr id="96" name=""/>
            <p:cNvSpPr/>
            <p:nvPr/>
          </p:nvSpPr>
          <p:spPr>
            <a:xfrm>
              <a:off x="4745880" y="3003120"/>
              <a:ext cx="71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809880" y="3489120"/>
              <a:ext cx="2819520" cy="533520"/>
              <a:chOff x="3809880" y="3489120"/>
              <a:chExt cx="2819520" cy="533520"/>
            </a:xfrm>
          </p:grpSpPr>
          <p:sp>
            <p:nvSpPr>
              <p:cNvPr id="98" name=""/>
              <p:cNvSpPr/>
              <p:nvPr/>
            </p:nvSpPr>
            <p:spPr>
              <a:xfrm>
                <a:off x="3809880" y="348912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9640" y="348912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73120" y="3003120"/>
            <a:ext cx="2819520" cy="1019520"/>
            <a:chOff x="573120" y="3003120"/>
            <a:chExt cx="2819520" cy="1019520"/>
          </a:xfrm>
        </p:grpSpPr>
        <p:sp>
          <p:nvSpPr>
            <p:cNvPr id="101" name=""/>
            <p:cNvSpPr/>
            <p:nvPr/>
          </p:nvSpPr>
          <p:spPr>
            <a:xfrm>
              <a:off x="1236240" y="3003120"/>
              <a:ext cx="12582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rch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73120" y="3489120"/>
              <a:ext cx="2819520" cy="533520"/>
              <a:chOff x="573120" y="3489120"/>
              <a:chExt cx="2819520" cy="533520"/>
            </a:xfrm>
          </p:grpSpPr>
          <p:sp>
            <p:nvSpPr>
              <p:cNvPr id="103" name=""/>
              <p:cNvSpPr/>
              <p:nvPr/>
            </p:nvSpPr>
            <p:spPr>
              <a:xfrm>
                <a:off x="573120" y="348912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82880" y="348912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FOR CASH PURC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952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7. Purchase merchandise for cash, $600.00. Check No. 2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11240"/>
            <a:ext cx="28195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73880" y="190512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97360" y="1911240"/>
            <a:ext cx="12956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9960" y="1911240"/>
            <a:ext cx="16765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3457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44080" y="3657600"/>
            <a:ext cx="1961640" cy="441360"/>
            <a:chOff x="4744080" y="3657600"/>
            <a:chExt cx="1961640" cy="441360"/>
          </a:xfrm>
        </p:grpSpPr>
        <p:sp>
          <p:nvSpPr>
            <p:cNvPr id="113" name=""/>
            <p:cNvSpPr/>
            <p:nvPr/>
          </p:nvSpPr>
          <p:spPr>
            <a:xfrm>
              <a:off x="4744080" y="37306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5520" y="3657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96800" y="3457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64520" y="3657600"/>
            <a:ext cx="2404080" cy="457200"/>
            <a:chOff x="1064520" y="3657600"/>
            <a:chExt cx="2404080" cy="457200"/>
          </a:xfrm>
        </p:grpSpPr>
        <p:sp>
          <p:nvSpPr>
            <p:cNvPr id="117" name=""/>
            <p:cNvSpPr/>
            <p:nvPr/>
          </p:nvSpPr>
          <p:spPr>
            <a:xfrm>
              <a:off x="1064520" y="3730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4640" y="3657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18400" y="361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42680" y="361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FOR CASH PURC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Ch18-02b" descr=""/>
          <p:cNvPicPr/>
          <p:nvPr/>
        </p:nvPicPr>
        <p:blipFill>
          <a:blip r:embed="rId1"/>
          <a:srcRect l="0" t="0" r="0" b="77593"/>
          <a:stretch/>
        </p:blipFill>
        <p:spPr>
          <a:xfrm>
            <a:off x="371520" y="1143000"/>
            <a:ext cx="8501040" cy="139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0773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752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440" y="4091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440" y="33526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440" y="445464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440" y="371808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4440" y="481644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CULATING A PURCHASES DIS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2057400"/>
            <a:ext cx="8229600" cy="2819520"/>
            <a:chOff x="457200" y="2057400"/>
            <a:chExt cx="8229600" cy="2819520"/>
          </a:xfrm>
        </p:grpSpPr>
        <p:grpSp>
          <p:nvGrpSpPr>
            <p:cNvPr id="138" name=""/>
            <p:cNvGrpSpPr/>
            <p:nvPr/>
          </p:nvGrpSpPr>
          <p:grpSpPr>
            <a:xfrm>
              <a:off x="457200" y="2195640"/>
              <a:ext cx="8229600" cy="2681280"/>
              <a:chOff x="457200" y="2195640"/>
              <a:chExt cx="8229600" cy="2681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200" y="2271600"/>
                <a:ext cx="8229600" cy="260532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57200" y="2195640"/>
                <a:ext cx="858600" cy="858600"/>
                <a:chOff x="457200" y="2195640"/>
                <a:chExt cx="858600" cy="858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57200" y="219564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219564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" y="265572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914400" y="265428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1523880" y="2057400"/>
              <a:ext cx="6802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1150920"/>
                  <a:tab algn="ctr" pos="2516040"/>
                  <a:tab algn="ctr" pos="3665520"/>
                  <a:tab algn="ctr" pos="4799160"/>
                  <a:tab algn="ctr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ep 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150920"/>
                  <a:tab algn="ctr" pos="2516040"/>
                  <a:tab algn="ctr" pos="3665520"/>
                  <a:tab algn="ctr" pos="4799160"/>
                  <a:tab algn="ctr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rchase Invoice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urchases Discou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Purchas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150920"/>
                  <a:tab algn="ctr" pos="2516040"/>
                  <a:tab algn="ctr" pos="3665520"/>
                  <a:tab algn="ctr" pos="4799160"/>
                  <a:tab algn="ctr" pos="5715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mount (P179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33520" y="3565440"/>
            <a:ext cx="855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ctr" pos="1150920"/>
                <a:tab algn="ctr" pos="2516040"/>
                <a:tab algn="ctr" pos="4114800"/>
                <a:tab algn="ctr" pos="5715000"/>
                <a:tab algn="ctr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50920"/>
                <a:tab algn="ctr" pos="2516040"/>
                <a:tab algn="ctr" pos="4114800"/>
                <a:tab algn="ctr" pos="5715000"/>
                <a:tab algn="ctr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chase Invoi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urchas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h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50920"/>
                <a:tab algn="ctr" pos="2516040"/>
                <a:tab algn="ctr" pos="4114800"/>
                <a:tab algn="ctr" pos="5715000"/>
                <a:tab algn="ctr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unt (P179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Dis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98764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50920"/>
                <a:tab algn="ctr" pos="2516040"/>
                <a:tab algn="ctr" pos="3665520"/>
                <a:tab algn="ctr" pos="479916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,25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45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79840"/>
            <a:ext cx="85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50920"/>
                <a:tab algn="ctr" pos="2516040"/>
                <a:tab algn="ctr" pos="4114800"/>
                <a:tab algn="ctr" pos="5715000"/>
                <a:tab algn="ctr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,254.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$145.0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,108.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838080"/>
            <a:ext cx="8229600" cy="1008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9. Paid cash on account to Pro Golf Company, $7,108.92, covering Purchase Invoice No. 179 for $7,254.00, less 2% discount, $145.08. Check No. 2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809880" y="3706560"/>
            <a:ext cx="2819520" cy="1019520"/>
            <a:chOff x="3809880" y="3706560"/>
            <a:chExt cx="2819520" cy="1019520"/>
          </a:xfrm>
        </p:grpSpPr>
        <p:sp>
          <p:nvSpPr>
            <p:cNvPr id="151" name=""/>
            <p:cNvSpPr/>
            <p:nvPr/>
          </p:nvSpPr>
          <p:spPr>
            <a:xfrm>
              <a:off x="3997440" y="3706560"/>
              <a:ext cx="220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rchases Dis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809880" y="4192560"/>
              <a:ext cx="2819520" cy="533520"/>
              <a:chOff x="3809880" y="4192560"/>
              <a:chExt cx="2819520" cy="533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809880" y="419256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19640" y="419256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ON ACCOUNT WITH  PURCHASES DIS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143000"/>
            <a:ext cx="8229600" cy="1008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9. Paid cash on account to Pro Golf Company, $7,108.92, covering Purchase Invoice No. 179 for $7,254.00, less 2% discount, $145.08. Check No. 2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28600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 Dis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73880" y="227952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97360" y="2286000"/>
            <a:ext cx="1295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39960" y="2286000"/>
            <a:ext cx="16765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160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44080" y="4410000"/>
            <a:ext cx="1961640" cy="441360"/>
            <a:chOff x="4744080" y="4410000"/>
            <a:chExt cx="1961640" cy="441360"/>
          </a:xfrm>
        </p:grpSpPr>
        <p:sp>
          <p:nvSpPr>
            <p:cNvPr id="163" name=""/>
            <p:cNvSpPr/>
            <p:nvPr/>
          </p:nvSpPr>
          <p:spPr>
            <a:xfrm>
              <a:off x="4744080" y="4483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4410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5.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96800" y="4160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74080" y="4361040"/>
            <a:ext cx="2594520" cy="457200"/>
            <a:chOff x="874080" y="4361040"/>
            <a:chExt cx="2594520" cy="457200"/>
          </a:xfrm>
        </p:grpSpPr>
        <p:sp>
          <p:nvSpPr>
            <p:cNvPr id="167" name=""/>
            <p:cNvSpPr/>
            <p:nvPr/>
          </p:nvSpPr>
          <p:spPr>
            <a:xfrm>
              <a:off x="874080" y="443376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,25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84640" y="43610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518400" y="441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304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9880" y="4773240"/>
            <a:ext cx="2819520" cy="1019520"/>
            <a:chOff x="3809880" y="4773240"/>
            <a:chExt cx="2819520" cy="1019520"/>
          </a:xfrm>
        </p:grpSpPr>
        <p:sp>
          <p:nvSpPr>
            <p:cNvPr id="173" name=""/>
            <p:cNvSpPr/>
            <p:nvPr/>
          </p:nvSpPr>
          <p:spPr>
            <a:xfrm>
              <a:off x="4745880" y="4773240"/>
              <a:ext cx="71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809880" y="5259240"/>
              <a:ext cx="2819520" cy="533520"/>
              <a:chOff x="3809880" y="5259240"/>
              <a:chExt cx="2819520" cy="533520"/>
            </a:xfrm>
          </p:grpSpPr>
          <p:sp>
            <p:nvSpPr>
              <p:cNvPr id="175" name=""/>
              <p:cNvSpPr/>
              <p:nvPr/>
            </p:nvSpPr>
            <p:spPr>
              <a:xfrm>
                <a:off x="3809880" y="525924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19640" y="525924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3733920" y="52275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744080" y="5427720"/>
            <a:ext cx="1961640" cy="441360"/>
            <a:chOff x="4744080" y="5427720"/>
            <a:chExt cx="1961640" cy="441360"/>
          </a:xfrm>
        </p:grpSpPr>
        <p:sp>
          <p:nvSpPr>
            <p:cNvPr id="179" name=""/>
            <p:cNvSpPr/>
            <p:nvPr/>
          </p:nvSpPr>
          <p:spPr>
            <a:xfrm>
              <a:off x="4744080" y="55008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5427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,108.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V="1">
            <a:off x="5242680" y="538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3120" y="3706560"/>
            <a:ext cx="2819520" cy="1019520"/>
            <a:chOff x="573120" y="3706560"/>
            <a:chExt cx="2819520" cy="1019520"/>
          </a:xfrm>
        </p:grpSpPr>
        <p:sp>
          <p:nvSpPr>
            <p:cNvPr id="183" name=""/>
            <p:cNvSpPr/>
            <p:nvPr/>
          </p:nvSpPr>
          <p:spPr>
            <a:xfrm>
              <a:off x="861840" y="3706560"/>
              <a:ext cx="20066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s Pay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73120" y="4192560"/>
              <a:ext cx="2819520" cy="533520"/>
              <a:chOff x="573120" y="4192560"/>
              <a:chExt cx="2819520" cy="533520"/>
            </a:xfrm>
          </p:grpSpPr>
          <p:sp>
            <p:nvSpPr>
              <p:cNvPr id="185" name=""/>
              <p:cNvSpPr/>
              <p:nvPr/>
            </p:nvSpPr>
            <p:spPr>
              <a:xfrm>
                <a:off x="573120" y="419256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82880" y="419256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ON ACCOUNT WITH  PURCHASES DIS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Ch18-02c" descr=""/>
          <p:cNvPicPr/>
          <p:nvPr/>
        </p:nvPicPr>
        <p:blipFill>
          <a:blip r:embed="rId1"/>
          <a:srcRect l="5142" t="0" r="0" b="70206"/>
          <a:stretch/>
        </p:blipFill>
        <p:spPr>
          <a:xfrm>
            <a:off x="457200" y="1143000"/>
            <a:ext cx="8229600" cy="1724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86600" y="24559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455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4559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455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440" y="4091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4440" y="33526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4440" y="445464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Invoic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4440" y="371808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440" y="48164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s Dis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2468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5880" y="518148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Invoice Amount Less the Purchases Dis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5638680" y="3536640"/>
            <a:ext cx="2819520" cy="1019520"/>
            <a:chOff x="5638680" y="3536640"/>
            <a:chExt cx="2819520" cy="1019520"/>
          </a:xfrm>
        </p:grpSpPr>
        <p:sp>
          <p:nvSpPr>
            <p:cNvPr id="203" name=""/>
            <p:cNvSpPr/>
            <p:nvPr/>
          </p:nvSpPr>
          <p:spPr>
            <a:xfrm>
              <a:off x="6574680" y="3536640"/>
              <a:ext cx="71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638680" y="4022640"/>
              <a:ext cx="2819520" cy="533520"/>
              <a:chOff x="5638680" y="4022640"/>
              <a:chExt cx="2819520" cy="533520"/>
            </a:xfrm>
          </p:grpSpPr>
          <p:sp>
            <p:nvSpPr>
              <p:cNvPr id="205" name=""/>
              <p:cNvSpPr/>
              <p:nvPr/>
            </p:nvSpPr>
            <p:spPr>
              <a:xfrm>
                <a:off x="5638680" y="4022640"/>
                <a:ext cx="28195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48440" y="402264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385560" y="3536640"/>
            <a:ext cx="4774680" cy="1019520"/>
            <a:chOff x="385560" y="3536640"/>
            <a:chExt cx="4774680" cy="1019520"/>
          </a:xfrm>
        </p:grpSpPr>
        <p:sp>
          <p:nvSpPr>
            <p:cNvPr id="208" name=""/>
            <p:cNvSpPr/>
            <p:nvPr/>
          </p:nvSpPr>
          <p:spPr>
            <a:xfrm>
              <a:off x="385560" y="3536640"/>
              <a:ext cx="4403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s Payable—Walter Manufactu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12920" y="4022640"/>
              <a:ext cx="4747320" cy="533520"/>
              <a:chOff x="412920" y="4022640"/>
              <a:chExt cx="4747320" cy="533520"/>
            </a:xfrm>
          </p:grpSpPr>
          <p:sp>
            <p:nvSpPr>
              <p:cNvPr id="210" name=""/>
              <p:cNvSpPr/>
              <p:nvPr/>
            </p:nvSpPr>
            <p:spPr>
              <a:xfrm>
                <a:off x="412920" y="4022640"/>
                <a:ext cx="4747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86400" y="4022640"/>
                <a:ext cx="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ON ACCOUNT WITHOUT PURCHASES DISCOU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1746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0. Paid cash on account to Walter Manufacturing, $2,650.00, covering Purchase Invoice No. 192. Check No. 2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013120"/>
            <a:ext cx="33526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.—Walter Mf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2006640"/>
            <a:ext cx="12956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013120"/>
            <a:ext cx="1295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2, page 4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013120"/>
            <a:ext cx="16761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9909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72880" y="4191120"/>
            <a:ext cx="1961640" cy="441360"/>
            <a:chOff x="6572880" y="4191120"/>
            <a:chExt cx="1961640" cy="441360"/>
          </a:xfrm>
        </p:grpSpPr>
        <p:sp>
          <p:nvSpPr>
            <p:cNvPr id="221" name=""/>
            <p:cNvSpPr/>
            <p:nvPr/>
          </p:nvSpPr>
          <p:spPr>
            <a:xfrm>
              <a:off x="6572880" y="42642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4320" y="4191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65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335240" y="39909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12160" y="4191120"/>
            <a:ext cx="2594520" cy="457200"/>
            <a:chOff x="1712160" y="4191120"/>
            <a:chExt cx="2594520" cy="457200"/>
          </a:xfrm>
        </p:grpSpPr>
        <p:sp>
          <p:nvSpPr>
            <p:cNvPr id="225" name=""/>
            <p:cNvSpPr/>
            <p:nvPr/>
          </p:nvSpPr>
          <p:spPr>
            <a:xfrm>
              <a:off x="1712160" y="42638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65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22720" y="4191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1356480" y="418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071480" y="414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Mary Colleen McLaughlin</cp:lastModifiedBy>
  <cp:lastPrinted>1999-04-07T18:56:35Z</cp:lastPrinted>
  <dcterms:modified xsi:type="dcterms:W3CDTF">1999-04-21T15:45:30Z</dcterms:modified>
  <cp:revision>55</cp:revision>
  <dc:subject/>
  <dc:title>ADJUSTING ENTRY FOR SUPPLIES</dc:title>
</cp:coreProperties>
</file>